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920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920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8AD0B57-EB1F-4EB2-BE93-BD9F71FDC7F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5920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5CB1ADA-71BB-40A2-9551-4F6D7090F5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550-0450-405E-8CD3-A5BF05FF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B5E-0762-4E8A-8A85-B8D42FF6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1C30-0AA1-465E-96CB-55AB92EC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5F6-5877-4994-900F-2BE4F4F7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063A-1E16-44ED-9FC4-F5BB6E48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71D-FDC0-4EA4-A1B2-8E234376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B41-03FB-4BB5-BB5E-981BE282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48E6-7744-48F7-B8C3-C79527BE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B93-175E-4A93-9166-2B1F6978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AE6-C466-46CA-8FE3-F05D8240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68E-836C-4EEC-938F-BADAA5FF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FE1-2538-448E-86D6-0E8D34AB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78D9-B3FD-4BFF-A518-C59CCE9A72E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eřejná podpora - de minim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mezení v provádění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nepodstatných změ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položky rozpočtu, připadají na různé subjekty nebo se podíl veřejné podpory u jednotlivých subjektů liší, není možné finanční prostředky mezi položkami rozpočtu převádě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šlo by ke změně výše podpory de minimis, která byla subjektům přiděl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ěkujeme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34-51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 pro třetí subjekty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rozlišo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příjemce dotace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– subjekt, kterému byla přiznána dota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příjemce veřejné podpory/podpory de minimis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– subjekt, u kterého budou vytvořena pracovní místa s čerpáním mzdových příspěvků, umisťovány osoby na volná pracovní místa s čerpáním mzdových příspěvků, poskytovány služby péče o děti, poradenství a vzdělávání včetně genderových a rodinných auditů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 pro třetí subjekty I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zhledem k tomu, že řada žadatelů v okamžiku vydání právního aktu ještě neví přesně, u kterých subjektů budou výše uvedené činnosti probíhat, a kdo tedy bude příjemcem podpory de minimis, nebude podpora de minimis jednotlivým subjektům před podpisem právního aktu, ale až v průběhu realizace proj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dotace má v právním aktu přidělenu souhrnnou částku určenou na podporu de minimis, která bude v průběhu projektu rozdělena mezi další subjekty. Může se jednat o zaměstnavatele využívající výše uvedené služby (pracovní místa, zaměstnání osob na volných pracovních místech s čerpáním mzdových příspěvků, služby péče o děti či poradenství a vzdělávání včetně genderových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rodinných auditů) nebo OSVČ, které se v rámci projektu účastní vzdělávání a poradenstv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Žádost o přidělení podpory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dotace je povinen předložit vyhlašovateli výzvy nejpozději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1 měsíc (u OSVČ 10 pracovních dní)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 poskytnutím některé z výše uvedených služeb následující podkl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11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ádost o přidělení podpory de minimis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 jednotlivé subjekty na předepsaném formuláři. Pro každý subjekt je potřeba vyplnit samostatný formulá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vrzení o účetním období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notlivých subjektů, kterým má být poskytnuta podpora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 de-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Pro každý subjekt je potřeba vyplnit  samostatný sloup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Formuláře jsou zveřejněny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u výzvy 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kumenty zaslat v listinné i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známení o přidělení podpory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ložené dokumenty vyhlašovatel výzvy posoudí a písemně oznámí příjemci dotace, zda a v jaké výši jim byla jednotlivým subjektům poskytnuta podpora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ákladě tohoto oznámení se dané subjekty stávají příjemci podpory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še podpory je pro daný subjekt zanesena do centrálního registru podpory de minimis provozovaného Ministerstvem zeměděls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důvodu centrální evidence není možné žádat o přidělení podpory de minimis průběžně několikrát za dobu realizace projektu pro jeden a tentýž subjekt. Pro každý subjekt je nutné žádat jednorázov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měna příjemce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=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ŽÁDOST O PODSTATNOU ZMĚ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v průběhu realizace projektu nastane změna příjemce podpory de minimis, je povinností příjemce dotace požádat poskytovatele dotace o podstatnou změnu projektu na standardním formuláři žádosti o podstatnou změn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roveň je nutné zaslat žádost o přidělení podpory de minimis nově zapojenému subjektu a čestné prohlášení o jeho účetním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rozdělené VP na začátku realizace projektu, nelze v průběhu projektu zapojovat další projekty. Je možné vyměnit jeden subjekt za jiný, v případě, že by původní subjekt chtěl z projektu odstoup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dstoupení příjemce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příjemce de minimis z projektu odstoupí nebo předčasně ukončí účast, zůstane jemu přidělená částka de minimis nedočerpá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tomto případě je nutné přiznanou výši de minimis snížit v registru de minimis. Příjemce de minimis musí vyhlašovateli výzvy zaslat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ísemnou žádost o snížení přiznané de minimis + čestné prohlášení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(formu ponecháváme na příjemci), že přiznanou de minimis skutečně nevyčerpá.  Vyhlašovatel výzvy na základě této žádosti zašle oznámení, že u daného subjektu de minimis snižujeme (případně rušíme) a v návazn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na to bude upravena její výši i v registru de minim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ohoda příjemce dotace s příjemcem podpory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dotace proplácí mzdové příspěvky třetí osobě (zapojenému subjektu), je povinen uzavřít s ním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ohodu o příspěv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hoda musí obsahovat ustanovení, že zapojený subjekt je povinen vytvořit podmínky k provedení kontroly vztahující se k čerpání mzdových příspěvků, poskytnout oprávněným osobám veškeré doklady vážící se k čerpání mzdových příspěvků a poskytnout součinnost všem osobám oprávněným k provádění kontroly (Řídící orgán, územní finanční orgány, Ministerstvo financí, Nejvyšší kontrolní úřad, Evropská komise a Evropský účetní dvůr, případně další orgány oprávněné k výkonu kontrol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mezení v provádění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nepodstatných změ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eřejnou podporu nelze navyšovat!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možnost převádět finanční prostředky z položek, které nespadají do režimu podpory de minimis (01) na položky označené podporou de minimis (0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pačná změna – převod finančních prostředků z položek s podporou de minimis (02) do položek, které nespadají do režimu podpory de minimis (01) možná je, ale pouze za předpokladu, že částka podpory nebude vyčerpá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vod mezi položkami, které spadají do podpory de minimis je možná, ale pouze za předpokladu, že nedojde k narušení původního rozdělení podpory mezi zapojené subjekty. Při převodu dojde pouze k přesunu veřejné podpory mezi jednou položkou do druhé, ale nedojde ke změně podílu podpory de mini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Kristyna Novotna</dc:creator>
  <dc:description/>
  <dc:language>en-US</dc:language>
  <cp:lastModifiedBy>Eliška</cp:lastModifiedBy>
  <dcterms:modified xsi:type="dcterms:W3CDTF">2012-12-07T09:34:28Z</dcterms:modified>
  <cp:revision>366</cp:revision>
  <dc:subject/>
  <dc:title>PM část</dc:title>
</cp:coreProperties>
</file>